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2451-6E23-4C46-A514-8D4F087E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9F90-98CA-4C9C-B82C-B651994F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63C-C901-456E-B889-42E097F6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FCE-0C44-42BA-B713-7BE0FAA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214-DCA3-4F82-B919-513F3AA7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59F-995D-4E24-9B57-BC0A353E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907-7310-4EC5-8475-0A4977D6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33A-4426-4CB5-A4FB-82E0425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C17-C29D-4AEA-BE9F-656AC87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FD6-CD29-4774-B3C4-1110751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D10-5C86-46F4-AF7D-3E2F6D3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218-C83C-4C0A-B25A-74FC2CF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1A6-2C3A-42C7-9CEF-87264DE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BD9-78A1-43B7-8D6B-9A8AE2C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64B4-3997-4971-AFD9-266304525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Me llamo_________ Clase 801</a:t>
            </a:r>
            <a:br>
              <a:rPr sz="4000"/>
            </a:b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La fecha es el 2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Salieron ellos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: to review for tomorrow’s grammar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 en el prete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i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h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s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mp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bre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i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wr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meter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to dr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y and complete the following sentences with the correct form of the verb in the PRETE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s __________ comprar el pastel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pro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muchos regal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c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niños _________ la piña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om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la _________ las invitacion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ri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 mucha gaseos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b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_____ en usar globos en la fiest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nsist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muchos vegetales crudo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Ustedes ___________ años ayer tambié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ump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o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8.11-8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1:23:13Z</dcterms:created>
  <dc:creator>Helen Zumaeta</dc:creator>
  <dc:description/>
  <dc:language>en-US</dc:language>
  <cp:lastModifiedBy>Helen Zumaeta</cp:lastModifiedBy>
  <cp:lastPrinted>2016-05-02T14:16:33Z</cp:lastPrinted>
  <dcterms:modified xsi:type="dcterms:W3CDTF">2016-05-02T15:34:42Z</dcterms:modified>
  <cp:revision>5</cp:revision>
  <dc:subject/>
  <dc:title>Me llamo ________ Clase 8im La fecha es el 8 de enero del 2013</dc:title>
</cp:coreProperties>
</file>